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7D5A-9E61-46D7-96CB-0C6A4FBA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1EBA-AEC7-4A1F-AC06-EBB6D86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CC27-1CEF-43EC-8570-3406F7CD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AA9A-B2CD-4D34-9782-C1509346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8DE0-FF24-4F08-B94C-7279E636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F3C4-7934-4E9D-9059-B782D17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ADBC-98B0-4821-A4B1-D75AF98A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4BAE-90B9-461C-AAF3-76C0E72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9A9-98EF-4DBC-924D-E75872C3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55C3-6887-46DB-8C70-9085CD2A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B18-D2BE-4A56-9D51-B029DCA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252E-A6C2-4781-9910-AE87E16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5005-3C9B-4B3A-A036-1258AEC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D17E-C3C4-4EB8-91B3-EAB20A36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B7D0-F033-4C05-819D-6F92FD9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7514-77C4-47EE-8D24-3439B189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E6B-7BF6-4288-9C95-CCD4D29C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D498-EA14-4F5A-90F3-59261861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3417-2C11-404B-ACD9-8DAFF17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7444-D919-4FB9-968B-D1D3E67D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5A34-5A46-4DA5-8D32-0F91F7B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2291-3DC5-47CD-86D1-4AA4B39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2DCA-D16C-49A5-8076-1B00B57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E7F5-3F64-4B51-BB4B-22E5609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3DA7-9231-4E0D-A3E3-0530223EB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05DA-3040-4BA5-9458-D46756EB2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presenta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6 Med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64080" cy="5648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80000" y="25653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852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lm can be seen as a reflection of the growing public opposition to American foreign policy in the Middle East and American involvement in Iraq/Afghanis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83664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a Texan senator who gave American money and weapons to Afghanistan after they were invaded by the Soviet U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5445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, the film constructs audience knowledge and understanding of the history and therefore contributes to the development of anti-war sent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ist approach in ac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0720"/>
            <a:ext cx="728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people in film represented as upper-class idi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must be some British people who the producers either encountered in reality or in another media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formed an opinion of them that they were stuck up idiots which they used as the basis of their re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individual watching the film, you chose whether to believe the representation was valid or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oing this, you were influenced by the fact that you yourself are British – an American watching the film would have probably come to a different conclu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780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ty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make notes on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1957320" cy="1566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1746360" cy="1307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1897200" cy="150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588000" y="3284640"/>
            <a:ext cx="1665360" cy="177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5445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*Homework**  Choose a reality TV programme you have seen recently. Note examples of voyeurism, symbolic violence, transformation, realism, entertainment values and emotional realism.  Does the programme have inter-media li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4244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groups, events, places and experiences are represented in media tex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piction or description of something, someone or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nvolve symbolising or standing in for what is being re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8360" y="5805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possible for the media to present the world as it really is... The media CONSTRUCTS meanings about the world.  They change or MEDIATE what is really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920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we encounter a media text, we are not seeing reality, but someone’s version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remember that a text will have been highly mediated before it reach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Comedy panel show such as ‘Mock the Week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75680" y="0"/>
            <a:ext cx="1768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 – 3 things to look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ever ends up on the screen/in the paper, much more will have been lef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-en-scene and narrative will have been arranged in a particula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ence will be encouraged towards concentrating on one aspect of the text – tabloid headline, camera close up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, if anything, are the following symbols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Mand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ney S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1857240" cy="230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2427480" cy="1820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27640" y="4221000"/>
            <a:ext cx="1876320" cy="2438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3573360"/>
            <a:ext cx="2024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opinion of the following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fer Lo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lla Parker-Bow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Trek f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1503360" cy="2282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249560" cy="172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3789360"/>
            <a:ext cx="2408040" cy="172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86680" y="378936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56360" y="5381640"/>
            <a:ext cx="2482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42920" y="1557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ilitants unleash wave of attacks across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781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eedom fighters bravely defend thei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6200" y="4292640"/>
            <a:ext cx="145584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ve v Construct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84464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presentations reflect values, ideologies and political/cultural concerns of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SPONDS t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s on relationship between texts and reality and way in which reality may be distorted in the interests of powerfu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UCTI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 knowledge and understanding is constr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INFLUENCES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ed with who has the power to ensure their version of reality is the accepted and dominant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26920" y="5805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Add further notes to your worksheet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3:11:06Z</dcterms:created>
  <dc:creator>niall</dc:creator>
  <dc:description/>
  <dc:language>en-US</dc:language>
  <cp:lastModifiedBy>declan</cp:lastModifiedBy>
  <dcterms:modified xsi:type="dcterms:W3CDTF">2010-09-01T18:53:11Z</dcterms:modified>
  <cp:revision>21</cp:revision>
  <dc:subject/>
  <dc:title>Representation </dc:title>
</cp:coreProperties>
</file>